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0FB-C106-4F1C-9FEE-E1AAD67D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371-66C0-46A8-8457-8579409D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B08-1E2C-4BD2-90C7-47210B30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C99-4CF1-449D-9F02-5307D7DD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A43F-3DF7-4863-B7B3-675D5C15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1E5E-8145-45FA-9838-577B9E35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49BD-0028-4093-8B8F-673C598D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A551-28D8-4487-AF74-8D6BC334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3F1D-B6D6-40FF-BE8F-1FBD191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DCB-AD5B-4D3B-92C1-AA1E98D7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F27E-2B2F-462E-9AC1-A26E037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B0A-D5E2-42F3-948D-CCD6892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FFF3-AA09-4ED2-AA9C-F59BA14A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6CEC-7562-415C-BC6C-01938610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22E7-C748-4161-B74A-205BD8F9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9B89-2008-4E6C-8657-860F3AF4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FFEA-B9BC-4B74-B2D0-E6BD53C4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19F-F065-4D6B-B596-468CC2EC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414-D52F-47D7-8F7D-CF23B8CC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5F3-E111-443B-B016-8ACDA5AF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92E-0CA4-456E-B987-E0C07270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F74-D0B2-46C9-B608-943C873C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DEF-EAB8-45E7-9639-CEFF5FD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C80-7621-4F15-80E1-9CE3567B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4B59-8222-4CC2-B693-F03B488C5F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AD40-377D-4844-977C-5B123F9A48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Junior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pt. 1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udy guide for t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st tomorrow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en neefertiti and her husband kink amenhotep who came to power in egypt in 1367. They built the city of akhetaton in honer of the egyptian sun god at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pe:raisin::plum:__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d:Seek::Flail: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y gu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y work with a partn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ow me when finished for your cred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1:32:00Z</dcterms:created>
  <dc:creator>Angie</dc:creator>
  <dc:description/>
  <dc:language>en-US</dc:language>
  <cp:lastModifiedBy>Angie</cp:lastModifiedBy>
  <dcterms:modified xsi:type="dcterms:W3CDTF">2009-09-14T01:33:18Z</dcterms:modified>
  <cp:revision>1</cp:revision>
  <dc:subject/>
  <dc:title>Juniors</dc:title>
</cp:coreProperties>
</file>